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EDA-6922-4471-852B-D09F1E0A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602-CC9B-49EC-B2F7-14D078A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1E1-C144-4A13-AA9D-457267EC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D12-AE0D-4FD3-B30B-ACDD1AF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83D-E2AB-4F4B-B21C-8251320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3F3-41A9-4E13-9F8D-9C6E05F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962-A312-4638-AF95-A44554FC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22A-EE24-4336-A7FF-373F873E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3FD-F6E9-45A4-A824-53BC1148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5D9-E0CA-4EB6-904A-B7D74F2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3C8-5263-4A0F-84C6-1CE4412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3D7-DDFC-4123-B1AE-7BA4EA9E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D084-09D0-4D20-8417-D7CC845D9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2880" y="576360"/>
            <a:ext cx="80582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57:48Z</dcterms:created>
  <dc:creator>gbagnati</dc:creator>
  <dc:description/>
  <dc:language>en-US</dc:language>
  <cp:lastModifiedBy>gbagnati</cp:lastModifiedBy>
  <dcterms:modified xsi:type="dcterms:W3CDTF">2009-06-05T20:09:32Z</dcterms:modified>
  <cp:revision>2</cp:revision>
  <dc:subject/>
  <dc:title>Diapositiva 1</dc:title>
</cp:coreProperties>
</file>